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D23DB9-6954-4AB1-AEBD-371CD7558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4FD760-9053-48F1-8CC9-B5B45626B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A9650A-EFF8-4ACC-9BA5-EEFB8F5A5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3E9E72-8455-4627-B747-6E2CCF1D7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125DC3-5FBE-4CA3-99C1-49AAFB868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4B214B-6237-4622-AF92-A3F4657EA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48D1C6-72DE-467E-8383-874FE9B4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3DE644-2841-44E1-B3F9-6ADC7039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331D5A-048B-4C18-9E4A-CBEDDE8A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40C793-6F38-43EA-8818-1A489B2EF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5BE872-2C36-40B4-90C4-31277B130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EDC06F-D28F-4DC1-A562-91159CA72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4c2b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c2b"/>
                </a:solidFill>
                <a:latin typeface="Tahoma"/>
              </a:rPr>
              <a:t>AI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c2b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4c2b"/>
                </a:solidFill>
                <a:latin typeface="Tahoma"/>
              </a:rPr>
              <a:t>CIS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714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4c2b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imes New Roman"/>
              </a:rPr>
              <a:t>San Francisco</a:t>
            </a:r>
            <a:r>
              <a:rPr b="1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867280" y="6019920"/>
            <a:ext cx="259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78963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1066680"/>
            <a:ext cx="3810240" cy="0"/>
          </a:xfrm>
          <a:prstGeom prst="line">
            <a:avLst/>
          </a:prstGeom>
          <a:ln w="76320">
            <a:solidFill>
              <a:srgbClr val="5789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38080" y="6114960"/>
            <a:ext cx="1752840" cy="742680"/>
            <a:chOff x="838080" y="6114960"/>
            <a:chExt cx="1752840" cy="742680"/>
          </a:xfrm>
        </p:grpSpPr>
        <p:sp>
          <p:nvSpPr>
            <p:cNvPr id="7" name=""/>
            <p:cNvSpPr/>
            <p:nvPr/>
          </p:nvSpPr>
          <p:spPr>
            <a:xfrm>
              <a:off x="838080" y="653580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8080" y="653580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86680" y="653580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86680" y="653580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62200" y="6114960"/>
              <a:ext cx="43920" cy="551160"/>
            </a:xfrm>
            <a:custGeom>
              <a:avLst/>
              <a:gdLst/>
              <a:ahLst/>
              <a:rect l="l" t="t" r="r" b="b"/>
              <a:pathLst>
                <a:path w="54" h="534">
                  <a:moveTo>
                    <a:pt x="54" y="534"/>
                  </a:moveTo>
                  <a:lnTo>
                    <a:pt x="30" y="0"/>
                  </a:lnTo>
                  <a:lnTo>
                    <a:pt x="0" y="53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38080" y="6826680"/>
              <a:ext cx="92880" cy="3096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40240" y="6829920"/>
              <a:ext cx="8784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945720" y="6343920"/>
              <a:ext cx="151560" cy="167040"/>
            </a:xfrm>
            <a:custGeom>
              <a:avLst/>
              <a:gdLst/>
              <a:ahLst/>
              <a:rect l="l" t="t" r="r" b="b"/>
              <a:pathLst>
                <a:path w="186" h="162">
                  <a:moveTo>
                    <a:pt x="186" y="156"/>
                  </a:moveTo>
                  <a:lnTo>
                    <a:pt x="156" y="156"/>
                  </a:lnTo>
                  <a:lnTo>
                    <a:pt x="156" y="156"/>
                  </a:lnTo>
                  <a:lnTo>
                    <a:pt x="156" y="150"/>
                  </a:lnTo>
                  <a:lnTo>
                    <a:pt x="150" y="144"/>
                  </a:lnTo>
                  <a:lnTo>
                    <a:pt x="150" y="138"/>
                  </a:lnTo>
                  <a:lnTo>
                    <a:pt x="150" y="138"/>
                  </a:lnTo>
                  <a:lnTo>
                    <a:pt x="138" y="150"/>
                  </a:lnTo>
                  <a:lnTo>
                    <a:pt x="114" y="156"/>
                  </a:lnTo>
                  <a:lnTo>
                    <a:pt x="96" y="162"/>
                  </a:lnTo>
                  <a:lnTo>
                    <a:pt x="96" y="162"/>
                  </a:lnTo>
                  <a:lnTo>
                    <a:pt x="48" y="150"/>
                  </a:lnTo>
                  <a:lnTo>
                    <a:pt x="12" y="12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36"/>
                  </a:lnTo>
                  <a:lnTo>
                    <a:pt x="48" y="12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6"/>
                  </a:lnTo>
                  <a:lnTo>
                    <a:pt x="168" y="24"/>
                  </a:lnTo>
                  <a:lnTo>
                    <a:pt x="186" y="54"/>
                  </a:lnTo>
                  <a:lnTo>
                    <a:pt x="186" y="54"/>
                  </a:lnTo>
                  <a:lnTo>
                    <a:pt x="174" y="54"/>
                  </a:lnTo>
                  <a:lnTo>
                    <a:pt x="150" y="54"/>
                  </a:lnTo>
                  <a:lnTo>
                    <a:pt x="132" y="54"/>
                  </a:lnTo>
                  <a:lnTo>
                    <a:pt x="132" y="54"/>
                  </a:lnTo>
                  <a:lnTo>
                    <a:pt x="126" y="42"/>
                  </a:lnTo>
                  <a:lnTo>
                    <a:pt x="114" y="36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72" y="42"/>
                  </a:lnTo>
                  <a:lnTo>
                    <a:pt x="54" y="60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54" y="102"/>
                  </a:lnTo>
                  <a:lnTo>
                    <a:pt x="72" y="120"/>
                  </a:lnTo>
                  <a:lnTo>
                    <a:pt x="96" y="126"/>
                  </a:lnTo>
                  <a:lnTo>
                    <a:pt x="96" y="126"/>
                  </a:lnTo>
                  <a:lnTo>
                    <a:pt x="120" y="120"/>
                  </a:lnTo>
                  <a:lnTo>
                    <a:pt x="132" y="114"/>
                  </a:lnTo>
                  <a:lnTo>
                    <a:pt x="138" y="102"/>
                  </a:lnTo>
                  <a:lnTo>
                    <a:pt x="138" y="102"/>
                  </a:lnTo>
                  <a:lnTo>
                    <a:pt x="132" y="102"/>
                  </a:lnTo>
                  <a:lnTo>
                    <a:pt x="114" y="102"/>
                  </a:lnTo>
                  <a:lnTo>
                    <a:pt x="108" y="102"/>
                  </a:lnTo>
                  <a:lnTo>
                    <a:pt x="108" y="102"/>
                  </a:lnTo>
                  <a:lnTo>
                    <a:pt x="108" y="72"/>
                  </a:lnTo>
                  <a:lnTo>
                    <a:pt x="186" y="72"/>
                  </a:lnTo>
                  <a:lnTo>
                    <a:pt x="186" y="15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107360" y="638712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8" y="90"/>
                  </a:lnTo>
                  <a:lnTo>
                    <a:pt x="78" y="90"/>
                  </a:lnTo>
                  <a:lnTo>
                    <a:pt x="84" y="90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2" y="78"/>
                  </a:lnTo>
                  <a:lnTo>
                    <a:pt x="114" y="78"/>
                  </a:lnTo>
                  <a:lnTo>
                    <a:pt x="132" y="78"/>
                  </a:lnTo>
                  <a:lnTo>
                    <a:pt x="144" y="78"/>
                  </a:lnTo>
                  <a:lnTo>
                    <a:pt x="144" y="78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50" y="66"/>
                  </a:lnTo>
                  <a:lnTo>
                    <a:pt x="150" y="66"/>
                  </a:lnTo>
                  <a:lnTo>
                    <a:pt x="120" y="66"/>
                  </a:lnTo>
                  <a:lnTo>
                    <a:pt x="72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234440" y="638712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6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54" y="30"/>
                  </a:lnTo>
                  <a:lnTo>
                    <a:pt x="48" y="42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61880" y="6387120"/>
              <a:ext cx="78120" cy="117720"/>
            </a:xfrm>
            <a:custGeom>
              <a:avLst/>
              <a:gdLst/>
              <a:ahLst/>
              <a:rect l="l" t="t" r="r" b="b"/>
              <a:pathLst>
                <a:path w="96" h="114">
                  <a:moveTo>
                    <a:pt x="0" y="0"/>
                  </a:moveTo>
                  <a:lnTo>
                    <a:pt x="42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54" y="12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12"/>
                  </a:lnTo>
                  <a:lnTo>
                    <a:pt x="96" y="24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6"/>
                  </a:lnTo>
                  <a:lnTo>
                    <a:pt x="84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72"/>
                  </a:lnTo>
                  <a:lnTo>
                    <a:pt x="42" y="102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440000" y="6387120"/>
              <a:ext cx="117360" cy="16092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144" y="102"/>
                  </a:moveTo>
                  <a:lnTo>
                    <a:pt x="144" y="120"/>
                  </a:lnTo>
                  <a:lnTo>
                    <a:pt x="126" y="144"/>
                  </a:lnTo>
                  <a:lnTo>
                    <a:pt x="78" y="156"/>
                  </a:lnTo>
                  <a:lnTo>
                    <a:pt x="78" y="156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42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26"/>
                  </a:lnTo>
                  <a:lnTo>
                    <a:pt x="72" y="132"/>
                  </a:lnTo>
                  <a:lnTo>
                    <a:pt x="78" y="132"/>
                  </a:lnTo>
                  <a:lnTo>
                    <a:pt x="78" y="132"/>
                  </a:lnTo>
                  <a:lnTo>
                    <a:pt x="96" y="126"/>
                  </a:lnTo>
                  <a:lnTo>
                    <a:pt x="102" y="114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90" y="102"/>
                  </a:lnTo>
                  <a:lnTo>
                    <a:pt x="78" y="108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30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2" y="24"/>
                  </a:lnTo>
                  <a:lnTo>
                    <a:pt x="30" y="6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78" y="0"/>
                  </a:lnTo>
                  <a:lnTo>
                    <a:pt x="90" y="6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0"/>
                  </a:lnTo>
                  <a:lnTo>
                    <a:pt x="144" y="0"/>
                  </a:lnTo>
                  <a:lnTo>
                    <a:pt x="144" y="102"/>
                  </a:lnTo>
                  <a:close/>
                  <a:moveTo>
                    <a:pt x="72" y="24"/>
                  </a:moveTo>
                  <a:lnTo>
                    <a:pt x="60" y="30"/>
                  </a:lnTo>
                  <a:lnTo>
                    <a:pt x="48" y="42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66"/>
                  </a:lnTo>
                  <a:lnTo>
                    <a:pt x="60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90" y="78"/>
                  </a:lnTo>
                  <a:lnTo>
                    <a:pt x="102" y="66"/>
                  </a:lnTo>
                  <a:lnTo>
                    <a:pt x="102" y="54"/>
                  </a:lnTo>
                  <a:lnTo>
                    <a:pt x="102" y="54"/>
                  </a:lnTo>
                  <a:lnTo>
                    <a:pt x="102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72120" y="634392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616400" y="638712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6" y="36"/>
                  </a:moveTo>
                  <a:lnTo>
                    <a:pt x="12" y="24"/>
                  </a:lnTo>
                  <a:lnTo>
                    <a:pt x="18" y="12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42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2" y="0"/>
                  </a:lnTo>
                  <a:lnTo>
                    <a:pt x="126" y="12"/>
                  </a:lnTo>
                  <a:lnTo>
                    <a:pt x="138" y="36"/>
                  </a:lnTo>
                  <a:lnTo>
                    <a:pt x="138" y="36"/>
                  </a:lnTo>
                  <a:lnTo>
                    <a:pt x="138" y="48"/>
                  </a:lnTo>
                  <a:lnTo>
                    <a:pt x="138" y="72"/>
                  </a:lnTo>
                  <a:lnTo>
                    <a:pt x="138" y="84"/>
                  </a:lnTo>
                  <a:lnTo>
                    <a:pt x="138" y="84"/>
                  </a:lnTo>
                  <a:lnTo>
                    <a:pt x="138" y="96"/>
                  </a:lnTo>
                  <a:lnTo>
                    <a:pt x="138" y="102"/>
                  </a:lnTo>
                  <a:lnTo>
                    <a:pt x="144" y="114"/>
                  </a:lnTo>
                  <a:lnTo>
                    <a:pt x="144" y="114"/>
                  </a:lnTo>
                  <a:lnTo>
                    <a:pt x="132" y="114"/>
                  </a:lnTo>
                  <a:lnTo>
                    <a:pt x="108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08"/>
                  </a:lnTo>
                  <a:lnTo>
                    <a:pt x="96" y="108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84" y="114"/>
                  </a:lnTo>
                  <a:lnTo>
                    <a:pt x="66" y="114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24" y="114"/>
                  </a:lnTo>
                  <a:lnTo>
                    <a:pt x="6" y="102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8" y="60"/>
                  </a:lnTo>
                  <a:lnTo>
                    <a:pt x="48" y="48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90" y="42"/>
                  </a:lnTo>
                  <a:lnTo>
                    <a:pt x="96" y="42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0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30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36" y="36"/>
                  </a:lnTo>
                  <a:lnTo>
                    <a:pt x="18" y="36"/>
                  </a:lnTo>
                  <a:lnTo>
                    <a:pt x="6" y="36"/>
                  </a:lnTo>
                  <a:lnTo>
                    <a:pt x="6" y="36"/>
                  </a:lnTo>
                  <a:close/>
                  <a:moveTo>
                    <a:pt x="66" y="96"/>
                  </a:moveTo>
                  <a:lnTo>
                    <a:pt x="84" y="90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84" y="66"/>
                  </a:lnTo>
                  <a:lnTo>
                    <a:pt x="78" y="66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54" y="72"/>
                  </a:lnTo>
                  <a:lnTo>
                    <a:pt x="48" y="72"/>
                  </a:lnTo>
                  <a:lnTo>
                    <a:pt x="48" y="84"/>
                  </a:lnTo>
                  <a:lnTo>
                    <a:pt x="48" y="84"/>
                  </a:lnTo>
                  <a:lnTo>
                    <a:pt x="48" y="90"/>
                  </a:lnTo>
                  <a:lnTo>
                    <a:pt x="54" y="96"/>
                  </a:lnTo>
                  <a:lnTo>
                    <a:pt x="66" y="96"/>
                  </a:lnTo>
                  <a:lnTo>
                    <a:pt x="66" y="9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753560" y="6343920"/>
              <a:ext cx="38880" cy="1609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756080" y="6346800"/>
              <a:ext cx="3420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812240" y="638712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812240" y="638712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92996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92996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228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04228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26764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26764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3900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3900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135520" y="634392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137680" y="6390360"/>
              <a:ext cx="34200" cy="1112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137680" y="6346800"/>
              <a:ext cx="3420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1794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1794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473560" y="638712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96" y="48"/>
                  </a:moveTo>
                  <a:lnTo>
                    <a:pt x="96" y="36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96" y="48"/>
                  </a:lnTo>
                  <a:lnTo>
                    <a:pt x="96" y="4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473560" y="638712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2507760" y="6411960"/>
              <a:ext cx="43920" cy="2448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54" y="24"/>
                  </a:moveTo>
                  <a:lnTo>
                    <a:pt x="54" y="12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18" y="24"/>
                  </a:lnTo>
                  <a:lnTo>
                    <a:pt x="42" y="24"/>
                  </a:lnTo>
                  <a:lnTo>
                    <a:pt x="54" y="24"/>
                  </a:lnTo>
                  <a:lnTo>
                    <a:pt x="54" y="2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04364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04364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077840" y="6603840"/>
              <a:ext cx="43920" cy="61920"/>
            </a:xfrm>
            <a:custGeom>
              <a:avLst/>
              <a:gdLst/>
              <a:ahLst/>
              <a:rect l="l" t="t" r="r" b="b"/>
              <a:pathLst>
                <a:path w="54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161000" y="653580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161000" y="653580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58920" y="6535800"/>
              <a:ext cx="136800" cy="154440"/>
            </a:xfrm>
            <a:custGeom>
              <a:avLst/>
              <a:gdLst/>
              <a:ahLst/>
              <a:rect l="l" t="t" r="r" b="b"/>
              <a:pathLst>
                <a:path w="168" h="150">
                  <a:moveTo>
                    <a:pt x="168" y="30"/>
                  </a:moveTo>
                  <a:lnTo>
                    <a:pt x="108" y="30"/>
                  </a:lnTo>
                  <a:lnTo>
                    <a:pt x="108" y="150"/>
                  </a:lnTo>
                  <a:lnTo>
                    <a:pt x="60" y="150"/>
                  </a:lnTo>
                  <a:lnTo>
                    <a:pt x="60" y="3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168" y="0"/>
                  </a:lnTo>
                  <a:lnTo>
                    <a:pt x="16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361880" y="657324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72"/>
                  </a:moveTo>
                  <a:lnTo>
                    <a:pt x="48" y="84"/>
                  </a:lnTo>
                  <a:lnTo>
                    <a:pt x="60" y="90"/>
                  </a:lnTo>
                  <a:lnTo>
                    <a:pt x="78" y="96"/>
                  </a:lnTo>
                  <a:lnTo>
                    <a:pt x="78" y="96"/>
                  </a:lnTo>
                  <a:lnTo>
                    <a:pt x="84" y="96"/>
                  </a:lnTo>
                  <a:lnTo>
                    <a:pt x="96" y="90"/>
                  </a:lnTo>
                  <a:lnTo>
                    <a:pt x="102" y="84"/>
                  </a:lnTo>
                  <a:lnTo>
                    <a:pt x="102" y="84"/>
                  </a:lnTo>
                  <a:lnTo>
                    <a:pt x="114" y="84"/>
                  </a:lnTo>
                  <a:lnTo>
                    <a:pt x="132" y="84"/>
                  </a:lnTo>
                  <a:lnTo>
                    <a:pt x="144" y="84"/>
                  </a:lnTo>
                  <a:lnTo>
                    <a:pt x="144" y="84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8" y="120"/>
                  </a:lnTo>
                  <a:lnTo>
                    <a:pt x="78" y="120"/>
                  </a:lnTo>
                  <a:lnTo>
                    <a:pt x="36" y="114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12"/>
                  </a:lnTo>
                  <a:lnTo>
                    <a:pt x="138" y="36"/>
                  </a:lnTo>
                  <a:lnTo>
                    <a:pt x="150" y="72"/>
                  </a:lnTo>
                  <a:lnTo>
                    <a:pt x="150" y="72"/>
                  </a:lnTo>
                  <a:lnTo>
                    <a:pt x="120" y="72"/>
                  </a:lnTo>
                  <a:lnTo>
                    <a:pt x="72" y="72"/>
                  </a:lnTo>
                  <a:lnTo>
                    <a:pt x="42" y="72"/>
                  </a:lnTo>
                  <a:lnTo>
                    <a:pt x="42" y="72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30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489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90" y="90"/>
                  </a:lnTo>
                  <a:lnTo>
                    <a:pt x="96" y="84"/>
                  </a:lnTo>
                  <a:lnTo>
                    <a:pt x="102" y="72"/>
                  </a:lnTo>
                  <a:lnTo>
                    <a:pt x="102" y="72"/>
                  </a:lnTo>
                  <a:lnTo>
                    <a:pt x="114" y="72"/>
                  </a:lnTo>
                  <a:lnTo>
                    <a:pt x="132" y="72"/>
                  </a:lnTo>
                  <a:lnTo>
                    <a:pt x="144" y="72"/>
                  </a:lnTo>
                  <a:lnTo>
                    <a:pt x="144" y="72"/>
                  </a:lnTo>
                  <a:lnTo>
                    <a:pt x="132" y="96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14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8" y="6"/>
                  </a:lnTo>
                  <a:lnTo>
                    <a:pt x="132" y="18"/>
                  </a:lnTo>
                  <a:lnTo>
                    <a:pt x="144" y="48"/>
                  </a:lnTo>
                  <a:lnTo>
                    <a:pt x="144" y="48"/>
                  </a:lnTo>
                  <a:lnTo>
                    <a:pt x="132" y="48"/>
                  </a:lnTo>
                  <a:lnTo>
                    <a:pt x="11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616400" y="653580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0" y="0"/>
                  </a:moveTo>
                  <a:lnTo>
                    <a:pt x="42" y="0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54" y="48"/>
                  </a:lnTo>
                  <a:lnTo>
                    <a:pt x="72" y="42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120" y="42"/>
                  </a:lnTo>
                  <a:lnTo>
                    <a:pt x="138" y="60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38" y="102"/>
                  </a:lnTo>
                  <a:lnTo>
                    <a:pt x="138" y="132"/>
                  </a:lnTo>
                  <a:lnTo>
                    <a:pt x="138" y="150"/>
                  </a:lnTo>
                  <a:lnTo>
                    <a:pt x="138" y="150"/>
                  </a:lnTo>
                  <a:lnTo>
                    <a:pt x="90" y="150"/>
                  </a:lnTo>
                  <a:lnTo>
                    <a:pt x="90" y="150"/>
                  </a:lnTo>
                  <a:lnTo>
                    <a:pt x="90" y="138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96"/>
                  </a:lnTo>
                  <a:lnTo>
                    <a:pt x="90" y="84"/>
                  </a:lnTo>
                  <a:lnTo>
                    <a:pt x="84" y="72"/>
                  </a:lnTo>
                  <a:lnTo>
                    <a:pt x="72" y="66"/>
                  </a:lnTo>
                  <a:lnTo>
                    <a:pt x="72" y="66"/>
                  </a:lnTo>
                  <a:lnTo>
                    <a:pt x="54" y="72"/>
                  </a:lnTo>
                  <a:lnTo>
                    <a:pt x="48" y="78"/>
                  </a:lnTo>
                  <a:lnTo>
                    <a:pt x="42" y="90"/>
                  </a:lnTo>
                  <a:lnTo>
                    <a:pt x="42" y="90"/>
                  </a:lnTo>
                  <a:lnTo>
                    <a:pt x="42" y="108"/>
                  </a:lnTo>
                  <a:lnTo>
                    <a:pt x="42" y="138"/>
                  </a:lnTo>
                  <a:lnTo>
                    <a:pt x="42" y="150"/>
                  </a:lnTo>
                  <a:lnTo>
                    <a:pt x="42" y="150"/>
                  </a:lnTo>
                  <a:lnTo>
                    <a:pt x="0" y="1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48520" y="65732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748520" y="65732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8709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8709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05480" y="6603840"/>
              <a:ext cx="4860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98360" y="6535800"/>
              <a:ext cx="3888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000880" y="6539040"/>
              <a:ext cx="34200" cy="1483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047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047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81520" y="6603840"/>
              <a:ext cx="4896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74760" y="65732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  <a:close/>
                  <a:moveTo>
                    <a:pt x="72" y="30"/>
                  </a:moveTo>
                  <a:lnTo>
                    <a:pt x="54" y="30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66"/>
                  </a:lnTo>
                  <a:lnTo>
                    <a:pt x="54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84" y="78"/>
                  </a:lnTo>
                  <a:lnTo>
                    <a:pt x="96" y="72"/>
                  </a:lnTo>
                  <a:lnTo>
                    <a:pt x="96" y="54"/>
                  </a:lnTo>
                  <a:lnTo>
                    <a:pt x="96" y="54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30"/>
                  </a:lnTo>
                  <a:lnTo>
                    <a:pt x="72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174760" y="65732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08960" y="6603840"/>
              <a:ext cx="43920" cy="554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30" y="0"/>
                  </a:moveTo>
                  <a:lnTo>
                    <a:pt x="12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36"/>
                  </a:lnTo>
                  <a:lnTo>
                    <a:pt x="12" y="48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42" y="48"/>
                  </a:lnTo>
                  <a:lnTo>
                    <a:pt x="54" y="42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12"/>
                  </a:lnTo>
                  <a:lnTo>
                    <a:pt x="48" y="0"/>
                  </a:lnTo>
                  <a:lnTo>
                    <a:pt x="30" y="0"/>
                  </a:lnTo>
                  <a:lnTo>
                    <a:pt x="3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297160" y="657900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297160" y="657900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579CA-57D1-4292-B19B-F99E70D4DDD8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KIS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11430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Introduc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Usag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685800" y="2133720"/>
            <a:ext cx="80773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Deriving the quantit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855720" indent="-85572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Use of assembly, count located assembly that refer to same assembl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62120" y="3808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Mapping a Detai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447920" y="1523880"/>
            <a:ext cx="51814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of piece: W,L,I,H,AB, etc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ISC size designatio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14400" y="30492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Piece Design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3880" y="2743200"/>
            <a:ext cx="60199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Taken from flavors fil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If profile defined explicitly, need a convention for storing name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Material Type Mapping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480" y="1447920"/>
            <a:ext cx="792504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195120" indent="-19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Arial Unicode MS"/>
              </a:rPr>
              <a:t>Material is inherited from </a:t>
            </a:r>
            <a:r>
              <a:rPr b="0" lang="en-US" sz="2800" spc="-1" strike="noStrike">
                <a:solidFill>
                  <a:srgbClr val="004c2b"/>
                </a:solidFill>
                <a:latin typeface="Arial"/>
              </a:rPr>
              <a:t>structural_frame_product</a:t>
            </a:r>
            <a:r>
              <a:rPr b="0" lang="en-US" sz="2800" spc="-1" strike="noStrike">
                <a:solidFill>
                  <a:srgbClr val="004c2b"/>
                </a:solidFill>
                <a:latin typeface="Arial Unicode MS"/>
              </a:rPr>
              <a:t> into</a:t>
            </a:r>
            <a:r>
              <a:rPr b="0" lang="en-US" sz="2800" spc="-1" strike="noStrike">
                <a:solidFill>
                  <a:srgbClr val="004c2b"/>
                </a:solidFill>
                <a:latin typeface="Arial"/>
              </a:rPr>
              <a:t> assembly</a:t>
            </a:r>
            <a:r>
              <a:rPr b="0" lang="en-US" sz="2800" spc="-1" strike="noStrike">
                <a:solidFill>
                  <a:srgbClr val="004c2b"/>
                </a:solidFill>
                <a:latin typeface="Arial Unicode MS"/>
              </a:rPr>
              <a:t> or </a:t>
            </a:r>
            <a:r>
              <a:rPr b="0" lang="en-US" sz="2800" spc="-1" strike="noStrike">
                <a:solidFill>
                  <a:srgbClr val="004c2b"/>
                </a:solidFill>
                <a:latin typeface="Arial"/>
              </a:rPr>
              <a:t>par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5" name=""/>
          <p:cNvGraphicFramePr/>
          <p:nvPr/>
        </p:nvGraphicFramePr>
        <p:xfrm>
          <a:off x="685800" y="2057400"/>
          <a:ext cx="7543800" cy="324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057400"/>
                    <a:ext cx="754380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685800" y="4572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Material Type Mapping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85800" y="426708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195120" indent="-195120">
              <a:lnSpc>
                <a:spcPct val="100000"/>
              </a:lnSpc>
              <a:buClr>
                <a:srgbClr val="004c2b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Arial Unicode MS"/>
              </a:rPr>
              <a:t>Associate variables of defining a KISS labor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Arial Unicode MS"/>
              </a:rPr>
              <a:t>labor Typ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Arial Unicode MS"/>
              </a:rPr>
              <a:t>Quantit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Arial Unicode MS"/>
              </a:rPr>
              <a:t>Size1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Arial Unicode MS"/>
              </a:rPr>
              <a:t>Size2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Arial Unicode MS"/>
              </a:rPr>
              <a:t>Not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Issu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Issues of Labor Type Mapping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948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Holes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9480" y="19051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Holes- Size 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04920" y="4267080"/>
            <a:ext cx="9034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21940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28760" y="-8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762120" y="1828800"/>
          <a:ext cx="7162560" cy="445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162560" cy="445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Holes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19051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Holes- Size 1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04920" y="4267080"/>
            <a:ext cx="9034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1940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28760" y="-8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304920" y="1905120"/>
          <a:ext cx="8534160" cy="3585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905120"/>
                    <a:ext cx="8534160" cy="35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Holes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09480" y="19051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Holes Size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4920" y="4267080"/>
            <a:ext cx="9034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21940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28760" y="-8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533520" y="2133720"/>
          <a:ext cx="7848360" cy="3965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2133720"/>
                    <a:ext cx="7848360" cy="39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Holes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19051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Holes- Size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096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04920" y="4267080"/>
            <a:ext cx="9034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21940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1066680" y="2362320"/>
          <a:ext cx="6858000" cy="2073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2362320"/>
                    <a:ext cx="6858000" cy="20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KIS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1430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40" y="-5119560"/>
            <a:ext cx="9144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-1440" y="-3389400"/>
            <a:ext cx="6041880" cy="2293920"/>
            <a:chOff x="-1440" y="-3389400"/>
            <a:chExt cx="6041880" cy="2293920"/>
          </a:xfrm>
        </p:grpSpPr>
        <p:grpSp>
          <p:nvGrpSpPr>
            <p:cNvPr id="148" name=""/>
            <p:cNvGrpSpPr/>
            <p:nvPr/>
          </p:nvGrpSpPr>
          <p:grpSpPr>
            <a:xfrm>
              <a:off x="3240" y="-3384720"/>
              <a:ext cx="6032520" cy="2284200"/>
              <a:chOff x="3240" y="-3384720"/>
              <a:chExt cx="6032520" cy="228420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240" y="-3384720"/>
                <a:ext cx="2011320" cy="822240"/>
                <a:chOff x="3240" y="-3384720"/>
                <a:chExt cx="2011320" cy="82224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71640" y="-3384720"/>
                  <a:ext cx="187488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File ID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3240" y="-3384720"/>
                  <a:ext cx="201132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2014560" y="-3384720"/>
                <a:ext cx="844560" cy="822240"/>
                <a:chOff x="2014560" y="-3384720"/>
                <a:chExt cx="844560" cy="82224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2082960" y="-3384720"/>
                  <a:ext cx="70776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F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014560" y="-3384720"/>
                  <a:ext cx="84456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2859120" y="-3384720"/>
                <a:ext cx="3176640" cy="822240"/>
                <a:chOff x="2859120" y="-3384720"/>
                <a:chExt cx="3176640" cy="82224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2927520" y="-3384720"/>
                  <a:ext cx="30398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Identifies file format, KISS version, application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859120" y="-3384720"/>
                  <a:ext cx="31766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3240" y="-2562480"/>
                <a:ext cx="2011320" cy="822240"/>
                <a:chOff x="3240" y="-2562480"/>
                <a:chExt cx="2011320" cy="8222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71640" y="-2562480"/>
                  <a:ext cx="187488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Header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3240" y="-2562480"/>
                  <a:ext cx="201132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2014560" y="-2562480"/>
                <a:ext cx="844560" cy="822240"/>
                <a:chOff x="2014560" y="-2562480"/>
                <a:chExt cx="844560" cy="82224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2082960" y="-2562480"/>
                  <a:ext cx="70776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2014560" y="-2562480"/>
                  <a:ext cx="84456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2859120" y="-2562480"/>
                <a:ext cx="3176640" cy="822240"/>
                <a:chOff x="2859120" y="-2562480"/>
                <a:chExt cx="3176640" cy="82224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2927520" y="-2562480"/>
                  <a:ext cx="30398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Job #, name customer, date, time, units,type of bill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2859120" y="-2562480"/>
                  <a:ext cx="31766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3240" y="-1740240"/>
                <a:ext cx="2011320" cy="639720"/>
                <a:chOff x="3240" y="-1740240"/>
                <a:chExt cx="2011320" cy="63972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71640" y="-1740240"/>
                  <a:ext cx="18748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Address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3240" y="-1740240"/>
                  <a:ext cx="20113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2014560" y="-1740240"/>
                <a:ext cx="844560" cy="639720"/>
                <a:chOff x="2014560" y="-1740240"/>
                <a:chExt cx="844560" cy="63972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2082960" y="-1740240"/>
                  <a:ext cx="7077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P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2014560" y="-1740240"/>
                  <a:ext cx="8445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2859120" y="-1740240"/>
                <a:ext cx="3176640" cy="639720"/>
                <a:chOff x="2859120" y="-1740240"/>
                <a:chExt cx="3176640" cy="63972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2927520" y="-1740240"/>
                  <a:ext cx="30398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Names and address, contact info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859120" y="-1740240"/>
                  <a:ext cx="3176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6" name=""/>
            <p:cNvSpPr/>
            <p:nvPr/>
          </p:nvSpPr>
          <p:spPr>
            <a:xfrm>
              <a:off x="-1440" y="-3389400"/>
              <a:ext cx="6041880" cy="2293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3240" y="-109548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peated Sections where Main Piece is listed , flowed by sub-pieces and associated labor, sequence and fabrication data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40" y="1079028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639800" y="157320"/>
          <a:ext cx="5846760" cy="6883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39800" y="157320"/>
                    <a:ext cx="5846760" cy="68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Holes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09480" y="19051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Holes- Not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4920" y="4267080"/>
            <a:ext cx="9034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1940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304920" y="2568600"/>
          <a:ext cx="8381880" cy="3444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2568600"/>
                    <a:ext cx="8381880" cy="34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Copes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0948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276640" y="23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0" y="1752480"/>
          <a:ext cx="8690040" cy="434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752480"/>
                    <a:ext cx="8690040" cy="43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" name=""/>
          <p:cNvSpPr/>
          <p:nvPr/>
        </p:nvSpPr>
        <p:spPr>
          <a:xfrm rot="5400000">
            <a:off x="2209320" y="5410080"/>
            <a:ext cx="380880" cy="533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dd7e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rot="5400000">
            <a:off x="3352320" y="5410080"/>
            <a:ext cx="380880" cy="533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dd7e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Camber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80880" y="129528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A camber labor that applies to a piec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Camber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948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609480" y="1295280"/>
          <a:ext cx="7315200" cy="471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1295280"/>
                    <a:ext cx="731520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"/>
          <p:cNvSpPr/>
          <p:nvPr/>
        </p:nvSpPr>
        <p:spPr>
          <a:xfrm rot="18930000">
            <a:off x="6629040" y="4038120"/>
            <a:ext cx="38088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dd7e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rot="18930000">
            <a:off x="5486400" y="3962160"/>
            <a:ext cx="380880" cy="533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dd7e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Burn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09480" y="12193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195120" indent="-195120"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Definition of Size 1 and Size 2 are similar to Holes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Note field should refer to restricted cutting typ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Flame cut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Lase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23344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380880" y="2819520"/>
          <a:ext cx="8305920" cy="3382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2819520"/>
                    <a:ext cx="8305920" cy="33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"/>
          <p:cNvSpPr/>
          <p:nvPr/>
        </p:nvSpPr>
        <p:spPr>
          <a:xfrm rot="13519200">
            <a:off x="8534160" y="4190400"/>
            <a:ext cx="30492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629080" y="21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Weld 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0948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295360" y="27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276640" y="166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685800" y="990720"/>
          <a:ext cx="7086600" cy="5337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990720"/>
                    <a:ext cx="7086600" cy="533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9" name=""/>
          <p:cNvSpPr/>
          <p:nvPr/>
        </p:nvSpPr>
        <p:spPr>
          <a:xfrm>
            <a:off x="7162920" y="4572000"/>
            <a:ext cx="167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705720" y="38862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Arial"/>
              </a:rPr>
              <a:t>Size 1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Weld 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0948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295360" y="27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276640" y="166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533520" y="1295280"/>
          <a:ext cx="7391160" cy="2259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295280"/>
                    <a:ext cx="7391160" cy="22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2" name=""/>
          <p:cNvSpPr/>
          <p:nvPr/>
        </p:nvSpPr>
        <p:spPr>
          <a:xfrm>
            <a:off x="2309760" y="273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457200" y="3733920"/>
          <a:ext cx="7696080" cy="2349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3733920"/>
                    <a:ext cx="7696080" cy="23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Equivalent Structures to CIS/2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Data Flow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2514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Mapping a Header Instanc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855720" indent="-855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Replicates information with a STEP file heade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855720" indent="-855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855720" indent="-855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855720" indent="-855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762120" y="3808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Mapping a Detai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447920" y="1143000"/>
            <a:ext cx="533376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rawing ref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iece and ship mark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uantit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of piece: W,L,I,H,AB, etc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ISC size design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STM Grade (op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ngth of piec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inish (op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t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85800" y="2133720"/>
            <a:ext cx="80773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Designation of Main Part in an Assembl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855720" indent="-85572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Consider using a note ‘main’ in an attribute field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808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Mapping a Detai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6400800" y="5638680"/>
            <a:ext cx="16765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Arial"/>
              </a:rPr>
              <a:t>Drawing revision No.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Detail Mapping -Drawing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13716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Example: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Mapping a Drawing No. and a Drawing revision  No. 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to CIS/2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457200" y="2057400"/>
          <a:ext cx="7391520" cy="3508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057400"/>
                    <a:ext cx="7391520" cy="35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6400800" y="4267080"/>
            <a:ext cx="1676520" cy="304920"/>
          </a:xfrm>
          <a:prstGeom prst="roundRect">
            <a:avLst>
              <a:gd name="adj" fmla="val 16667"/>
            </a:avLst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010280" y="5486400"/>
            <a:ext cx="53352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400800" y="4572000"/>
            <a:ext cx="1676520" cy="914400"/>
          </a:xfrm>
          <a:prstGeom prst="roundRect">
            <a:avLst>
              <a:gd name="adj" fmla="val 16667"/>
            </a:avLst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553080" y="3886200"/>
            <a:ext cx="106704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Arial"/>
              </a:rPr>
              <a:t>Drawing No.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10800000">
            <a:off x="6858000" y="4114440"/>
            <a:ext cx="53352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Detail Mapping -Shipmark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Shipmark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Example: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Alternative of mapping a KISS Shipmark to CIS/2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28640" y="23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685800" y="2514600"/>
          <a:ext cx="7543800" cy="324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514600"/>
                    <a:ext cx="754380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 flipH="1" flipV="1">
            <a:off x="3581280" y="4114440"/>
            <a:ext cx="1905120" cy="1600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562720" y="541008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or quantity, count references to same assembl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990720" y="4571640"/>
            <a:ext cx="1371600" cy="15238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066680" y="58672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‘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main’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Detail Mapping -Piecemark 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175248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Piecemark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Example: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Alternative of mapping a KISS Piecemark into CIS/2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28640" y="23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828800" y="2514600"/>
          <a:ext cx="5486400" cy="391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8800" y="2514600"/>
                    <a:ext cx="5486400" cy="39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30T00:48:48Z</dcterms:created>
  <dc:creator>Administrator</dc:creator>
  <dc:description/>
  <dc:language>en-US</dc:language>
  <cp:lastModifiedBy>Administrator</cp:lastModifiedBy>
  <cp:lastPrinted>2001-11-12T21:18:27Z</cp:lastPrinted>
  <dcterms:modified xsi:type="dcterms:W3CDTF">2001-11-12T21:50:09Z</dcterms:modified>
  <cp:revision>27</cp:revision>
  <dc:subject/>
  <dc:title>No Slide Title</dc:title>
</cp:coreProperties>
</file>